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3EA-D03B-415E-88DA-7EA8094C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384480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803-53C3-4482-BE56-9B55EB60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0E78-C9D5-4CC3-AB9F-9B408FC4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8A5-5F57-4943-95C7-94FAD158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F1D5-2C63-41CB-B153-DBF6B883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C6D0-C524-4435-B623-200FC4F0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1100-795A-4495-8C1A-F379CF09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7901-1EA0-4126-85EE-31EE9D4E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FDBE-08C4-49CD-A543-21743752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751A-862D-4BD3-BEE4-07723A4B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BB92-5FF9-4CFF-85E8-4338FA62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397-BF68-4638-840C-85920336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3779-1751-477F-B115-DD5B570D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44DE-9545-4C2E-82DA-ADD2840F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384480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B187-5E5C-4099-9D7C-260688C7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AC0E-6EBC-4F31-8E98-3C26DB06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9A7A-3CF7-4429-AF10-0EFE20B0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AD6-06F0-4433-8DBA-C342C018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134-DB0A-4595-94D1-A2895840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B42-9992-4330-8E6D-7CD9024A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E05-B728-4DF7-AA0F-77721978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718-4329-41C0-B6E1-CB8DA805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DC2-0877-47E3-A328-E38DBBFF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D81-1DD7-4D56-9CE5-4CDBBFC5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40226" r="0" b="281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5a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40CB-F267-4182-8298-D466113DAA1D}" type="datetime">
              <a:rPr b="0" lang="zh-CN" sz="1200" spc="-1" strike="noStrike">
                <a:solidFill>
                  <a:srgbClr val="929292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1BBA-FFD0-4093-9958-09CEB6F5969F}" type="slidenum">
              <a:rPr b="0" lang="zh-CN" sz="1200" spc="-1" strike="noStrike">
                <a:solidFill>
                  <a:srgbClr val="9292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0" t="40226" r="0" b="281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任意多边形 7"/>
          <p:cNvSpPr/>
          <p:nvPr/>
        </p:nvSpPr>
        <p:spPr>
          <a:xfrm>
            <a:off x="5643720" y="2038320"/>
            <a:ext cx="2020680" cy="2155680"/>
          </a:xfrm>
          <a:custGeom>
            <a:avLst/>
            <a:gdLst/>
            <a:ahLst/>
            <a:rect l="l" t="t" r="r" b="b"/>
            <a:pathLst>
              <a:path w="1390462" h="1482863">
                <a:moveTo>
                  <a:pt x="598226" y="1751"/>
                </a:moveTo>
                <a:cubicBezTo>
                  <a:pt x="678840" y="-3808"/>
                  <a:pt x="761343" y="3786"/>
                  <a:pt x="842695" y="25793"/>
                </a:cubicBezTo>
                <a:cubicBezTo>
                  <a:pt x="1168103" y="113823"/>
                  <a:pt x="1393154" y="410312"/>
                  <a:pt x="1390438" y="747405"/>
                </a:cubicBezTo>
                <a:cubicBezTo>
                  <a:pt x="1387722" y="1084499"/>
                  <a:pt x="1157924" y="1377322"/>
                  <a:pt x="831139" y="1460098"/>
                </a:cubicBezTo>
                <a:cubicBezTo>
                  <a:pt x="504355" y="1542874"/>
                  <a:pt x="162866" y="1394760"/>
                  <a:pt x="0" y="1099609"/>
                </a:cubicBezTo>
                <a:lnTo>
                  <a:pt x="13669" y="1092065"/>
                </a:lnTo>
                <a:cubicBezTo>
                  <a:pt x="173106" y="1381000"/>
                  <a:pt x="507403" y="1525995"/>
                  <a:pt x="827305" y="1444962"/>
                </a:cubicBezTo>
                <a:cubicBezTo>
                  <a:pt x="1147207" y="1363929"/>
                  <a:pt x="1372164" y="1077274"/>
                  <a:pt x="1374823" y="747279"/>
                </a:cubicBezTo>
                <a:cubicBezTo>
                  <a:pt x="1377482" y="417285"/>
                  <a:pt x="1157171" y="127041"/>
                  <a:pt x="838617" y="40865"/>
                </a:cubicBezTo>
                <a:cubicBezTo>
                  <a:pt x="520062" y="-45311"/>
                  <a:pt x="183473" y="94278"/>
                  <a:pt x="19402" y="380607"/>
                </a:cubicBezTo>
                <a:cubicBezTo>
                  <a:pt x="14887" y="378019"/>
                  <a:pt x="10371" y="375431"/>
                  <a:pt x="5855" y="372843"/>
                </a:cubicBezTo>
                <a:cubicBezTo>
                  <a:pt x="131556" y="153477"/>
                  <a:pt x="356386" y="18427"/>
                  <a:pt x="598226" y="1751"/>
                </a:cubicBezTo>
                <a:close/>
              </a:path>
            </a:pathLst>
          </a:custGeom>
          <a:solidFill>
            <a:srgbClr val="e95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5a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2DEB-0411-4865-8956-BA4871FE7726}" type="datetime">
              <a:rPr b="0" lang="zh-CN" sz="1200" spc="-1" strike="noStrike">
                <a:solidFill>
                  <a:srgbClr val="929292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F84F-BA63-4E91-AEF4-1CEFF1FE3042}" type="slidenum">
              <a:rPr b="0" lang="zh-CN" sz="1200" spc="-1" strike="noStrike">
                <a:solidFill>
                  <a:srgbClr val="9292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11265"/>
          <p:cNvSpPr/>
          <p:nvPr/>
        </p:nvSpPr>
        <p:spPr>
          <a:xfrm>
            <a:off x="2590920" y="838080"/>
            <a:ext cx="3809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Arial"/>
                <a:ea typeface="楷体_GB2312"/>
              </a:rPr>
              <a:t>一生勤劳忙，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Arial"/>
                <a:ea typeface="楷体_GB2312"/>
              </a:rPr>
              <a:t>专去百花乡。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Arial"/>
                <a:ea typeface="楷体_GB2312"/>
              </a:rPr>
              <a:t>回来献一物，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Arial"/>
                <a:ea typeface="楷体_GB2312"/>
              </a:rPr>
              <a:t>香甜胜过糖。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86" name="图片 11267" descr="j0151207[1]"/>
          <p:cNvPicPr/>
          <p:nvPr/>
        </p:nvPicPr>
        <p:blipFill>
          <a:blip r:embed="rId1"/>
          <a:stretch/>
        </p:blipFill>
        <p:spPr>
          <a:xfrm>
            <a:off x="6172200" y="4572000"/>
            <a:ext cx="123516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23553"/>
          <p:cNvSpPr txBox="1"/>
          <p:nvPr/>
        </p:nvSpPr>
        <p:spPr>
          <a:xfrm>
            <a:off x="1447920" y="5335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2" name="矩形 23554"/>
          <p:cNvSpPr/>
          <p:nvPr/>
        </p:nvSpPr>
        <p:spPr>
          <a:xfrm>
            <a:off x="533520" y="19051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听说蜜蜂有辨认方向的能力，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无论飞到哪里，它总是可以回到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原处。我想做个试验。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3" name="矩形 23556"/>
          <p:cNvSpPr/>
          <p:nvPr/>
        </p:nvSpPr>
        <p:spPr>
          <a:xfrm>
            <a:off x="152280" y="38095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．“我”想做个什么试验呢？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4" name="矩形 23557"/>
          <p:cNvSpPr/>
          <p:nvPr/>
        </p:nvSpPr>
        <p:spPr>
          <a:xfrm>
            <a:off x="1626840" y="4648320"/>
            <a:ext cx="39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．为什么要做这个实验呢？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15" name="图片 23558" descr="2005102208283483263"/>
          <p:cNvPicPr/>
          <p:nvPr/>
        </p:nvPicPr>
        <p:blipFill>
          <a:blip r:embed="rId1"/>
          <a:stretch/>
        </p:blipFill>
        <p:spPr>
          <a:xfrm>
            <a:off x="609480" y="380880"/>
            <a:ext cx="828720" cy="102888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23560"/>
          <p:cNvSpPr/>
          <p:nvPr/>
        </p:nvSpPr>
        <p:spPr>
          <a:xfrm>
            <a:off x="2882880" y="5486400"/>
            <a:ext cx="286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Arial"/>
                <a:ea typeface="楷体"/>
              </a:rPr>
              <a:t>因为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……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所以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……</a:t>
            </a:r>
            <a:endParaRPr b="0" lang="en-US" sz="4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6386"/>
          <p:cNvSpPr/>
          <p:nvPr/>
        </p:nvSpPr>
        <p:spPr>
          <a:xfrm>
            <a:off x="457200" y="190404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                  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自读第二自然段，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画出试验的过程。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18" name="图片 16387" descr="2005102208283483263"/>
          <p:cNvPicPr/>
          <p:nvPr/>
        </p:nvPicPr>
        <p:blipFill>
          <a:blip r:embed="rId1"/>
          <a:stretch/>
        </p:blipFill>
        <p:spPr>
          <a:xfrm>
            <a:off x="609480" y="380880"/>
            <a:ext cx="828720" cy="10288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6388"/>
          <p:cNvSpPr txBox="1"/>
          <p:nvPr/>
        </p:nvSpPr>
        <p:spPr>
          <a:xfrm>
            <a:off x="1447920" y="5335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380988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3f3f3f"/>
                </a:solidFill>
                <a:latin typeface="Arial"/>
                <a:ea typeface="楷体_GB2312"/>
              </a:rPr>
              <a:t>然后，我叫小女儿在蜂窝旁等着，自己带着做了记号的二十只蜜蜂，走了两里多路，打开纸袋，把它们放出来。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1" name="矩形 25602"/>
          <p:cNvSpPr/>
          <p:nvPr/>
        </p:nvSpPr>
        <p:spPr>
          <a:xfrm>
            <a:off x="1143000" y="1828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一天，我在我家花园的蜂窝里捉了一些蜜蜂，把它们放在纸袋里。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2" name="矩形 25603"/>
          <p:cNvSpPr/>
          <p:nvPr/>
        </p:nvSpPr>
        <p:spPr>
          <a:xfrm>
            <a:off x="1143000" y="2819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为了证实飞回花园的蜜蜂是我放飞的，我在它们的背上做了白色的记号。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3" name="矩形 25604"/>
          <p:cNvSpPr txBox="1"/>
          <p:nvPr/>
        </p:nvSpPr>
        <p:spPr>
          <a:xfrm>
            <a:off x="1371600" y="457200"/>
            <a:ext cx="1600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4" name="图片 25605" descr="2005102208283483263"/>
          <p:cNvPicPr/>
          <p:nvPr/>
        </p:nvPicPr>
        <p:blipFill>
          <a:blip r:embed="rId1"/>
          <a:stretch/>
        </p:blipFill>
        <p:spPr>
          <a:xfrm>
            <a:off x="457200" y="304920"/>
            <a:ext cx="828720" cy="1028520"/>
          </a:xfrm>
          <a:prstGeom prst="rect">
            <a:avLst/>
          </a:prstGeom>
          <a:ln w="0">
            <a:noFill/>
          </a:ln>
        </p:spPr>
      </p:pic>
      <p:sp>
        <p:nvSpPr>
          <p:cNvPr id="125" name="矩形 25606"/>
          <p:cNvSpPr txBox="1"/>
          <p:nvPr/>
        </p:nvSpPr>
        <p:spPr>
          <a:xfrm>
            <a:off x="3124080" y="457200"/>
            <a:ext cx="1676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26625"/>
          <p:cNvSpPr/>
          <p:nvPr/>
        </p:nvSpPr>
        <p:spPr>
          <a:xfrm>
            <a:off x="914400" y="14619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这时候起风了，蜜蜂飞得很低，  要触到地面，    这样可以减少阻力。</a:t>
            </a:r>
            <a:r>
              <a:rPr b="1" lang="zh-CN" sz="32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7" name="矩形 26626"/>
          <p:cNvSpPr/>
          <p:nvPr/>
        </p:nvSpPr>
        <p:spPr>
          <a:xfrm>
            <a:off x="7555680" y="1219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几乎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8" name="矩形 26627"/>
          <p:cNvSpPr/>
          <p:nvPr/>
        </p:nvSpPr>
        <p:spPr>
          <a:xfrm>
            <a:off x="3375360" y="175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大概 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9" name="矩形 26628"/>
          <p:cNvSpPr/>
          <p:nvPr/>
        </p:nvSpPr>
        <p:spPr>
          <a:xfrm>
            <a:off x="990720" y="2985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这时候起风了，蜜蜂飞得很低，要触到地面，这样可以减少阻力。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我想，它们飞得这么低，     看到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遥远的家呢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1" name="矩形 27650"/>
          <p:cNvSpPr/>
          <p:nvPr/>
        </p:nvSpPr>
        <p:spPr>
          <a:xfrm>
            <a:off x="3065040" y="1447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2" name="矩形 27651"/>
          <p:cNvSpPr/>
          <p:nvPr/>
        </p:nvSpPr>
        <p:spPr>
          <a:xfrm>
            <a:off x="762120" y="220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我想，它们飞得这么低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不能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看到遥远的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3" name="矩形 27652"/>
          <p:cNvSpPr/>
          <p:nvPr/>
        </p:nvSpPr>
        <p:spPr>
          <a:xfrm>
            <a:off x="6112800" y="914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怎么能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4" name="矩形 27653"/>
          <p:cNvSpPr/>
          <p:nvPr/>
        </p:nvSpPr>
        <p:spPr>
          <a:xfrm>
            <a:off x="762120" y="37483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你们距离我那么远，怎么能听到我说的话呢？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5" name="矩形 27654"/>
          <p:cNvSpPr/>
          <p:nvPr/>
        </p:nvSpPr>
        <p:spPr>
          <a:xfrm>
            <a:off x="685800" y="4967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你们距离我那么远，不能听到我说的话。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8197"/>
          <p:cNvSpPr/>
          <p:nvPr/>
        </p:nvSpPr>
        <p:spPr>
          <a:xfrm>
            <a:off x="1347840" y="1903680"/>
            <a:ext cx="650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读第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3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、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4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、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5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自然段，试验结果</a:t>
            </a:r>
            <a:endParaRPr b="0" lang="en-US" sz="4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部分，蜜蜂是什么时候飞回来的？</a:t>
            </a:r>
            <a:endParaRPr b="0" lang="en-US" sz="4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一边读一边画出有关的句子。 </a:t>
            </a:r>
            <a:endParaRPr b="0" lang="en-US" sz="4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7" name="矩形 8198"/>
          <p:cNvSpPr txBox="1"/>
          <p:nvPr/>
        </p:nvSpPr>
        <p:spPr>
          <a:xfrm>
            <a:off x="1447920" y="5335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8" name="图片 8199" descr="2005102208283483263"/>
          <p:cNvPicPr/>
          <p:nvPr/>
        </p:nvPicPr>
        <p:blipFill>
          <a:blip r:embed="rId1"/>
          <a:stretch/>
        </p:blipFill>
        <p:spPr>
          <a:xfrm>
            <a:off x="609480" y="380880"/>
            <a:ext cx="8287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作者做试验的</a:t>
            </a:r>
            <a:r>
              <a:rPr b="1" lang="en-US" sz="40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只蜜蜂回到家了吗？试验的结果怎么样呢？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40" name="图片 28674" descr="2005102208575034063"/>
          <p:cNvPicPr/>
          <p:nvPr/>
        </p:nvPicPr>
        <p:blipFill>
          <a:blip r:embed="rId1"/>
          <a:stretch/>
        </p:blipFill>
        <p:spPr>
          <a:xfrm>
            <a:off x="152280" y="304920"/>
            <a:ext cx="19814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2293"/>
          <p:cNvSpPr/>
          <p:nvPr/>
        </p:nvSpPr>
        <p:spPr>
          <a:xfrm>
            <a:off x="1227240" y="1980360"/>
            <a:ext cx="700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3f"/>
                </a:solidFill>
                <a:latin typeface="Arial"/>
                <a:ea typeface="楷体"/>
              </a:rPr>
              <a:t>       </a:t>
            </a:r>
            <a:r>
              <a:rPr b="1" lang="zh-CN" sz="6000" spc="-1" strike="noStrike">
                <a:solidFill>
                  <a:srgbClr val="3f3f3f"/>
                </a:solidFill>
                <a:latin typeface="Arial"/>
                <a:ea typeface="楷体"/>
              </a:rPr>
              <a:t>法布尔通过试验，得出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Arial"/>
                <a:ea typeface="楷体"/>
              </a:rPr>
              <a:t>的结论是什么？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42" name="图片 12294" descr="2005102208283483263"/>
          <p:cNvPicPr/>
          <p:nvPr/>
        </p:nvPicPr>
        <p:blipFill>
          <a:blip r:embed="rId1"/>
          <a:stretch/>
        </p:blipFill>
        <p:spPr>
          <a:xfrm>
            <a:off x="609480" y="380880"/>
            <a:ext cx="828720" cy="1028880"/>
          </a:xfrm>
          <a:prstGeom prst="rect">
            <a:avLst/>
          </a:prstGeom>
          <a:ln w="0">
            <a:noFill/>
          </a:ln>
        </p:spPr>
      </p:pic>
      <p:sp>
        <p:nvSpPr>
          <p:cNvPr id="143" name="矩形 12295"/>
          <p:cNvSpPr txBox="1"/>
          <p:nvPr/>
        </p:nvSpPr>
        <p:spPr>
          <a:xfrm>
            <a:off x="1447920" y="5335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8434"/>
          <p:cNvSpPr/>
          <p:nvPr/>
        </p:nvSpPr>
        <p:spPr>
          <a:xfrm>
            <a:off x="2299680" y="182844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f3f3f"/>
                </a:solidFill>
                <a:latin typeface="楷体"/>
                <a:ea typeface="楷体"/>
              </a:rPr>
              <a:t>闷 几 尽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9458"/>
          <p:cNvSpPr/>
          <p:nvPr/>
        </p:nvSpPr>
        <p:spPr>
          <a:xfrm>
            <a:off x="1009800" y="1980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f3f3f"/>
                </a:solidFill>
                <a:latin typeface="楷体"/>
                <a:ea typeface="楷体"/>
              </a:rPr>
              <a:t>闷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6" name="文本框 19459"/>
          <p:cNvSpPr/>
          <p:nvPr/>
        </p:nvSpPr>
        <p:spPr>
          <a:xfrm>
            <a:off x="2211840" y="1981080"/>
            <a:ext cx="58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7" name="文本框 19460"/>
          <p:cNvSpPr/>
          <p:nvPr/>
        </p:nvSpPr>
        <p:spPr>
          <a:xfrm>
            <a:off x="2880000" y="1828800"/>
            <a:ext cx="15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8" name="文本框 19461"/>
          <p:cNvSpPr/>
          <p:nvPr/>
        </p:nvSpPr>
        <p:spPr>
          <a:xfrm>
            <a:off x="2821320" y="2971800"/>
            <a:ext cx="15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9" name="文本框 19463"/>
          <p:cNvSpPr/>
          <p:nvPr/>
        </p:nvSpPr>
        <p:spPr>
          <a:xfrm>
            <a:off x="5369400" y="160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"/>
              </a:rPr>
              <a:t>闷热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0" name="文本框 19464"/>
          <p:cNvSpPr/>
          <p:nvPr/>
        </p:nvSpPr>
        <p:spPr>
          <a:xfrm>
            <a:off x="5174280" y="28195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Arial"/>
                <a:ea typeface="楷体"/>
              </a:rPr>
              <a:t>闷闷不乐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3314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3765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13316"/>
          <p:cNvSpPr/>
          <p:nvPr/>
        </p:nvSpPr>
        <p:spPr>
          <a:xfrm>
            <a:off x="1752480" y="762120"/>
            <a:ext cx="0" cy="5029200"/>
          </a:xfrm>
          <a:prstGeom prst="line">
            <a:avLst/>
          </a:prstGeom>
          <a:ln w="442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9" name="直接连接符 13317"/>
          <p:cNvSpPr/>
          <p:nvPr/>
        </p:nvSpPr>
        <p:spPr>
          <a:xfrm>
            <a:off x="1981080" y="6172200"/>
            <a:ext cx="5181840" cy="0"/>
          </a:xfrm>
          <a:prstGeom prst="line">
            <a:avLst/>
          </a:prstGeom>
          <a:ln w="316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90" name="图片 13320" descr="j0088492[1]"/>
          <p:cNvPicPr/>
          <p:nvPr/>
        </p:nvPicPr>
        <p:blipFill>
          <a:blip r:embed="rId2"/>
          <a:stretch/>
        </p:blipFill>
        <p:spPr>
          <a:xfrm>
            <a:off x="685800" y="14479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3321" descr="j0088492[1]"/>
          <p:cNvPicPr/>
          <p:nvPr/>
        </p:nvPicPr>
        <p:blipFill>
          <a:blip r:embed="rId3"/>
          <a:stretch/>
        </p:blipFill>
        <p:spPr>
          <a:xfrm>
            <a:off x="685800" y="25909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323" descr="j0088492[1]"/>
          <p:cNvPicPr/>
          <p:nvPr/>
        </p:nvPicPr>
        <p:blipFill>
          <a:blip r:embed="rId4"/>
          <a:stretch/>
        </p:blipFill>
        <p:spPr>
          <a:xfrm>
            <a:off x="609480" y="365760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3325" descr="j0088492[1]"/>
          <p:cNvPicPr/>
          <p:nvPr/>
        </p:nvPicPr>
        <p:blipFill>
          <a:blip r:embed="rId5"/>
          <a:stretch/>
        </p:blipFill>
        <p:spPr>
          <a:xfrm>
            <a:off x="685800" y="4800600"/>
            <a:ext cx="685800" cy="582480"/>
          </a:xfrm>
          <a:prstGeom prst="rect">
            <a:avLst/>
          </a:prstGeom>
          <a:ln w="0">
            <a:noFill/>
          </a:ln>
        </p:spPr>
      </p:pic>
      <p:sp>
        <p:nvSpPr>
          <p:cNvPr id="94" name="矩形 13329"/>
          <p:cNvSpPr txBox="1"/>
          <p:nvPr/>
        </p:nvSpPr>
        <p:spPr>
          <a:xfrm rot="5400000">
            <a:off x="6362640" y="3085920"/>
            <a:ext cx="243828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25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蜜蜂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5" name="图片 13330" descr="2005102208310521439"/>
          <p:cNvPicPr/>
          <p:nvPr/>
        </p:nvPicPr>
        <p:blipFill>
          <a:blip r:embed="rId6"/>
          <a:stretch/>
        </p:blipFill>
        <p:spPr>
          <a:xfrm>
            <a:off x="6934320" y="838080"/>
            <a:ext cx="128412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3331"/>
          <p:cNvSpPr/>
          <p:nvPr/>
        </p:nvSpPr>
        <p:spPr>
          <a:xfrm>
            <a:off x="7020000" y="949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BatangChe"/>
                <a:ea typeface="BatangChe"/>
              </a:rPr>
              <a:t>14</a:t>
            </a:r>
            <a:endParaRPr b="0" lang="en-US" sz="5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20482"/>
          <p:cNvSpPr/>
          <p:nvPr/>
        </p:nvSpPr>
        <p:spPr>
          <a:xfrm>
            <a:off x="1162080" y="1980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f3f3f"/>
                </a:solidFill>
                <a:latin typeface="楷体"/>
                <a:ea typeface="楷体"/>
              </a:rPr>
              <a:t>几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2" name="矩形 20483"/>
          <p:cNvSpPr/>
          <p:nvPr/>
        </p:nvSpPr>
        <p:spPr>
          <a:xfrm>
            <a:off x="2362320" y="1981080"/>
            <a:ext cx="59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" name="文本框 20484"/>
          <p:cNvSpPr/>
          <p:nvPr/>
        </p:nvSpPr>
        <p:spPr>
          <a:xfrm>
            <a:off x="3135600" y="1600200"/>
            <a:ext cx="6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4" name="文本框 20485"/>
          <p:cNvSpPr/>
          <p:nvPr/>
        </p:nvSpPr>
        <p:spPr>
          <a:xfrm>
            <a:off x="3124080" y="2971800"/>
            <a:ext cx="77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j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ǐ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5" name="文本框 20486"/>
          <p:cNvSpPr/>
          <p:nvPr/>
        </p:nvSpPr>
        <p:spPr>
          <a:xfrm>
            <a:off x="4527360" y="13716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楷体"/>
              </a:rPr>
              <a:t>几乎</a:t>
            </a:r>
            <a:endParaRPr b="0" lang="en-US" sz="8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6" name="文本框 20487"/>
          <p:cNvSpPr/>
          <p:nvPr/>
        </p:nvSpPr>
        <p:spPr>
          <a:xfrm>
            <a:off x="4527360" y="2743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00"/>
                </a:solidFill>
                <a:latin typeface="Arial"/>
                <a:ea typeface="楷体"/>
              </a:rPr>
              <a:t>几个</a:t>
            </a:r>
            <a:endParaRPr b="0" lang="en-US" sz="8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21506"/>
          <p:cNvSpPr/>
          <p:nvPr/>
        </p:nvSpPr>
        <p:spPr>
          <a:xfrm>
            <a:off x="1162080" y="1752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f3f3f"/>
                </a:solidFill>
                <a:latin typeface="楷体"/>
                <a:ea typeface="楷体"/>
              </a:rPr>
              <a:t>尽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8" name="矩形 21507"/>
          <p:cNvSpPr/>
          <p:nvPr/>
        </p:nvSpPr>
        <p:spPr>
          <a:xfrm>
            <a:off x="2362320" y="1752480"/>
            <a:ext cx="59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9" name="文本框 21508"/>
          <p:cNvSpPr/>
          <p:nvPr/>
        </p:nvSpPr>
        <p:spPr>
          <a:xfrm>
            <a:off x="4984560" y="1143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楷体"/>
              </a:rPr>
              <a:t>尽管</a:t>
            </a:r>
            <a:endParaRPr b="0" lang="en-US" sz="8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0" name="文本框 21509"/>
          <p:cNvSpPr/>
          <p:nvPr/>
        </p:nvSpPr>
        <p:spPr>
          <a:xfrm>
            <a:off x="5060880" y="25909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00"/>
                </a:solidFill>
                <a:latin typeface="Arial"/>
                <a:ea typeface="楷体"/>
              </a:rPr>
              <a:t>尽力</a:t>
            </a:r>
            <a:endParaRPr b="0" lang="en-US" sz="8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1" name="文本框 21510"/>
          <p:cNvSpPr/>
          <p:nvPr/>
        </p:nvSpPr>
        <p:spPr>
          <a:xfrm>
            <a:off x="3135960" y="1371600"/>
            <a:ext cx="10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楷体"/>
              </a:rPr>
              <a:t>j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ǐ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楷体"/>
              </a:rPr>
              <a:t>n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2" name="文本框 21511"/>
          <p:cNvSpPr/>
          <p:nvPr/>
        </p:nvSpPr>
        <p:spPr>
          <a:xfrm>
            <a:off x="3125520" y="2743200"/>
            <a:ext cx="10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j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2532"/>
          <p:cNvSpPr/>
          <p:nvPr/>
        </p:nvSpPr>
        <p:spPr>
          <a:xfrm>
            <a:off x="1224360" y="457200"/>
            <a:ext cx="6500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法布尔：（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1823—1915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）法国著名科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学家、科普作家。从小生活贫困，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岁考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入师范学校，毕业后在初中教数学。一次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带学生上户外几何课，忽然在石块上发现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垒筑峰和蜂窝，从此“虫心”焕发。他花了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一个月的工资，买了一本昆虫学著作，立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志做一个为虫子写历史的人。他穷毕生之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力深入昆虫世界，在自然环境中对昆虫进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行观察和实验，真实地记录下昆虫的本能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与习性，写成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册之巨的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昆虫记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7171"/>
          <p:cNvSpPr/>
          <p:nvPr/>
        </p:nvSpPr>
        <p:spPr>
          <a:xfrm>
            <a:off x="1962000" y="838080"/>
            <a:ext cx="5209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四面飞散 辨认 蜂窝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逆风而飞 检查 迷失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确确实实 记忆 解释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记号 几乎 激动 尽管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陌生 遥远 本能 触到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4339"/>
          <p:cNvSpPr/>
          <p:nvPr/>
        </p:nvSpPr>
        <p:spPr>
          <a:xfrm>
            <a:off x="380880" y="913680"/>
            <a:ext cx="876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课文先写（  ）听说（    ）有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辨别（    ）的能力，想做个</a:t>
            </a:r>
            <a:r>
              <a:rPr b="1" lang="en-US" sz="4000" spc="-1" strike="noStrike">
                <a:solidFill>
                  <a:srgbClr val="3f3f3f"/>
                </a:solidFill>
                <a:latin typeface="楷体"/>
                <a:ea typeface="楷体"/>
              </a:rPr>
              <a:t>(   )</a:t>
            </a: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；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再写“我”试验的（    ）；最后写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我”尚无法解释蜜蜂为什么有辨认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方向的能力。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5362"/>
          <p:cNvSpPr/>
          <p:nvPr/>
        </p:nvSpPr>
        <p:spPr>
          <a:xfrm>
            <a:off x="1849680" y="838080"/>
            <a:ext cx="566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无论 试验 袋子 证实 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大概 减少 阻力 推测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包括 长途 超常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 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准确无误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5123"/>
          <p:cNvSpPr/>
          <p:nvPr/>
        </p:nvSpPr>
        <p:spPr>
          <a:xfrm>
            <a:off x="1018440" y="1676520"/>
            <a:ext cx="722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3f3f"/>
                </a:solidFill>
                <a:latin typeface="楷体"/>
                <a:ea typeface="楷体"/>
              </a:rPr>
              <a:t>论 试 验 袋 证 概 减 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2" name="文本框 5124"/>
          <p:cNvSpPr/>
          <p:nvPr/>
        </p:nvSpPr>
        <p:spPr>
          <a:xfrm>
            <a:off x="1096560" y="3733920"/>
            <a:ext cx="671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3f3f"/>
                </a:solidFill>
                <a:latin typeface="楷体"/>
                <a:ea typeface="楷体"/>
              </a:rPr>
              <a:t>阻 测 括 确 误 途 超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3" name="文本框 5125"/>
          <p:cNvSpPr/>
          <p:nvPr/>
        </p:nvSpPr>
        <p:spPr>
          <a:xfrm>
            <a:off x="215280" y="838080"/>
            <a:ext cx="862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ù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n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ì 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y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n   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i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ng g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i   ji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4" name="文本框 5126"/>
          <p:cNvSpPr/>
          <p:nvPr/>
        </p:nvSpPr>
        <p:spPr>
          <a:xfrm>
            <a:off x="340920" y="3124080"/>
            <a:ext cx="859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  ku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ò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qu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è    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w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ù    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ú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9221"/>
          <p:cNvSpPr/>
          <p:nvPr/>
        </p:nvSpPr>
        <p:spPr>
          <a:xfrm>
            <a:off x="1460880" y="533520"/>
            <a:ext cx="6215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"/>
                <a:ea typeface="楷体"/>
              </a:rPr>
              <a:t>论 试 证 误 减 测 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楷体"/>
                <a:ea typeface="楷体"/>
              </a:rPr>
              <a:t>括 确 阻 概 验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6" name="文本框 9222"/>
          <p:cNvSpPr/>
          <p:nvPr/>
        </p:nvSpPr>
        <p:spPr>
          <a:xfrm>
            <a:off x="5181480" y="388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7" name="文本框 9223"/>
          <p:cNvSpPr/>
          <p:nvPr/>
        </p:nvSpPr>
        <p:spPr>
          <a:xfrm>
            <a:off x="3311280" y="2814480"/>
            <a:ext cx="24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加一 加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8" name="文本框 9224"/>
          <p:cNvSpPr/>
          <p:nvPr/>
        </p:nvSpPr>
        <p:spPr>
          <a:xfrm>
            <a:off x="1405440" y="4419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00"/>
                </a:solidFill>
                <a:latin typeface="Arial"/>
                <a:ea typeface="楷体"/>
              </a:rPr>
              <a:t>袋</a:t>
            </a:r>
            <a:endParaRPr b="0" lang="en-US" sz="7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9" name="文本框 9225"/>
          <p:cNvSpPr/>
          <p:nvPr/>
        </p:nvSpPr>
        <p:spPr>
          <a:xfrm>
            <a:off x="5628240" y="44197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f3f3f"/>
                </a:solidFill>
                <a:latin typeface="楷体"/>
                <a:ea typeface="楷体"/>
              </a:rPr>
              <a:t>途超</a:t>
            </a:r>
            <a:endParaRPr b="0" lang="en-US" sz="7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6147"/>
          <p:cNvSpPr/>
          <p:nvPr/>
        </p:nvSpPr>
        <p:spPr>
          <a:xfrm>
            <a:off x="1849680" y="838080"/>
            <a:ext cx="566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无论 试验 袋子 证实 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大概 减少 阻力 推测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包括 长途 超常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 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准确无误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21:04Z</dcterms:created>
  <dc:creator>Administrator</dc:creator>
  <dc:description/>
  <dc:language>en-US</dc:language>
  <cp:lastModifiedBy>小慕</cp:lastModifiedBy>
  <dcterms:modified xsi:type="dcterms:W3CDTF">2018-02-28T11:20:4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  <property fmtid="{D5CDD505-2E9C-101B-9397-08002B2CF9AE}" pid="3" name="Version">
    <vt:r8>1</vt:r8>
  </property>
</Properties>
</file>